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A1A03-B433-4F2F-B715-90FBE2A6A4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A8C5F-5951-4EF5-8D65-9C52E064FC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B225A-4986-438B-9774-56ECC9F0E4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898A1-F89B-419D-BCB9-CBC22B7C2D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jouter les CP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1646C-79FD-43F0-9AA4-6470133979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A9DF2-5480-4A6F-9543-9D713918DF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B4086-1350-4F56-8118-E120C59D37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60866-BF63-4E15-A30E-1ACD29ADB6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D1944-4649-4469-976A-F25C371158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CE1A2-263E-4847-AEBE-65EB969DF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CB26-C7F0-4513-81E7-BA04F06EE2F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C7D17D-089D-4166-9E42-085ED7A0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EC3306-2E8C-419A-B73A-9C894F3E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238842-B9A2-43DE-B229-6C7EE538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12084F-4474-4C57-8F49-3F42BB2D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6A9006-5586-412E-BD31-02FAFDAC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C58D0C-A432-4881-9C7C-EC11C367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06DCE1-1B40-4884-8EC6-20F6E5DE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673914-126B-4035-BA48-29BD4BFD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AAF36C-C404-471B-833E-B288D7E5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5833AF-6FC0-40A5-BE23-DF4B22BC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7F44-DA4F-4581-8C82-C58A733F9D5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3C52A2-FA9E-46D2-AD50-F7D77988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C4F69D-7947-434E-AC85-98330317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A5D894-8965-49C1-B585-D8EB60DA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F88303-8C5B-4AF1-90DA-457670A3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B65EB7-3140-4456-BF15-02E7C344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411826-2E0D-483C-A460-0ABE10EA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00B4C6-AC9B-4EFE-A118-8A54A309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3E8A9D-BA96-40BE-BCEE-24440366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3181CD-0B92-4EE0-9406-2138535E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2C318A-9AF6-4F03-9B25-D9319B56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C7B01-3BF5-4702-836E-77B9B045062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F74764-ACEA-4FF9-B220-2CD57A47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BD6351-2B73-4697-865E-7572D0A1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1BBCE4-FDE1-4133-86F2-FAAAC493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7FC718-2679-44CC-91E9-4FCB3D30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C30DBB-E4A1-459B-B0D6-08603220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88E58D-C3D4-45C0-BED0-F9E5C00B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DB4D69-736F-4F33-9D18-00428FCA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4CDB38-4BDA-45E4-B1A4-B003DF11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9855AC-3CE3-455F-AE6E-F45D2980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02A1FE-805C-431B-BAE3-DEB60E5F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C16FF-5211-4C9D-A23D-41FC4B46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B6F097-015A-46F9-8570-AA6B7CAC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A97A81-E778-4EA7-8F72-E353A52A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777D0B-4607-4CF1-8E44-9695F3D5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48ED83-1BBF-480A-8458-0119016C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E1225E-B100-4B25-A5DF-2FC356DD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A53559-CDED-461D-B21C-BA182E89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508BC0-7ADA-409F-B1BB-4D6FFA37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190ABA-3205-423E-802E-7108A9FF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E3E688-6378-4C76-BD37-1E7B2EE6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08EB0C-DD39-472B-9211-D1365C3B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31827-1515-4EEF-9F6F-6F323601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4960FE-E4FD-48FF-B782-C3190AFE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A43EEF-F141-44EF-88F0-DFF0603E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35F760-6403-47A8-98F0-2764D09C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C43469-BED8-47AC-A715-D3B3C0EF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FEC8A3-8FBA-4E0E-B56E-F1116C95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86FD33-9A19-4856-9238-69AFE8DA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E737A2-23D7-47F4-A299-EFE193BB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DB4244-DBCB-48EE-AFF6-DD6F78F3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B6FB76-D15E-4081-817F-DBAACE60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9AD4DE-968E-48B7-ADC1-B78F02B9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46D8C-1617-4E1B-8F2C-2CD33047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C3B46E-5DE4-4766-8F89-05A60427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4726CB-9B68-486F-BDEF-D81B9EA1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8B86EF-CEEA-4ADE-9FA4-E0F4E459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046F9C-1A27-452E-BFC6-94169B7F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52DE07-5830-4BA4-A149-C9263F4A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02B85D-34FE-4407-9787-A120BF58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EE5E1A-E92F-4B93-AD2C-BF34F210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AB1CF-31C6-4540-9815-994CA5BF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58629-B2B4-471F-B3B9-64D92975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431FD-26D7-4B4D-887B-B7C7C267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FE7A6-2A2A-4A38-AE9E-E2E190EB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03E0-47F9-48A3-9819-79AC29A1A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7CFC1-DB40-4CE7-9F0C-7129B88A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ACF77-F263-4C11-8E8D-3B99E0BE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B8FE7-E9C3-434D-9E4C-B3EE1BE3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45CFE-FE14-4D8B-B2E1-6B460CB3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ECD22-1469-42F6-AA57-170C8550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1DB48-FC89-4AE2-9C2F-EA896ACF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BAB31-3615-429C-85A9-212E1472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98EC8-4CA0-4425-B37C-F5DF4D02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0D7EE-232C-468F-A4CA-49A98FA3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AD03B-BE5E-4D1B-93C2-1C9CAA63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C4EFC-EE61-4F62-855D-AB97484395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8712D-B7D4-444C-90C3-E390E8FF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3204E-6D79-4B27-8CF8-293D2CD2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09B7A-402C-474B-B352-12681DC1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516A7-10A9-44B6-8C43-934075F2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D4E13-BB75-42DF-BD97-88ABA06C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8FB06-862F-450E-9991-9B0181EE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96DA9-8C31-4E38-9FC5-9FF6E7CC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D780F-0A58-4CB0-A2E5-BA62761A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4069C-A82C-46AC-9EEB-EBC28167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37E7B-0037-4B57-8B5B-0F2C9B29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F39A-C042-46B7-8C5C-0C680328E9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D051BE-B097-4095-BEA4-FB7AC9CC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C89329-0338-42D5-8116-AD4A12BA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F2859B-6238-4BB0-B388-FDA67614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E2919-C33D-4A00-BB86-71C68FB5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C57903-FDD7-4E68-806A-50EDDE68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9A18F-19FF-4920-BE7D-C55632B2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40F1E-9522-4E91-8E42-9DB951AE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66CA6C-3EEF-43B4-B0EA-B0C0C195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045BA-6073-4681-B6BC-F0DBF62A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E545D-239A-41DA-B079-A77898CB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99BC-28AA-4B0B-B2DE-C4D0A35C070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88878-D36A-4FD6-933D-F3153594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C02CD-E592-4271-A5F3-A2C7516F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19903-68F3-4014-81A1-8FFF10F4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BAF56-535E-4D7C-971F-5C07AB72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FF61CF-1784-4965-8CA0-AF9CAB59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EFB59-1CF9-4A20-959D-2A9FC87F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F36DC-C184-4B4B-B935-327C89B6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EE144-7679-4076-8F2F-C6B3FC65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8E7D8-E5E5-47D4-99AC-BF9433AA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867E4-E159-4758-AB7D-CD3825D5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DE0C5-AF29-4FF1-859D-0927BBCE690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118D6-F6C4-46F5-904A-5384AA4B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DB32D-45FD-408B-97CB-4D79455F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0224E-554E-4668-B4DD-ECD80AF7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402BA9-1377-4ECD-9EC2-D4F51A76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73A3D-520E-4D73-AC89-5D5A4F52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37D16-E675-4A1D-BA29-EF87B941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9C0B8-725B-4E15-9DC5-34B4E8DC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81484-F19B-4D65-93DE-A1198D8E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7BFBB-FDAD-4873-B3AD-7DB3A3AA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0D940D-6B58-4063-98EB-04DC1AEC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35C6-CF13-48DB-9F07-82D53F39E9C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F3663-F815-4F96-B29B-4CEAD5BD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E985B-8E1D-42AE-A3B7-68314E0B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BC083-49ED-4E5A-8EB3-0995586E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CAC926-9EFB-47B4-84BE-A8757B1E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A13FB-2BD3-438D-A9F3-3CC7B485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6427A2-3DFF-436E-8C76-562B6622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25001E-30C1-4E14-900B-B9382C74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1368DC-9DF9-4E01-B972-2F770159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66B256-18A2-428B-971E-E4FB88F2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FF668-ED73-4950-9E89-0A3DD69A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E1BD-AE34-4DBA-A421-FA297E26EFA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9F3073-5845-43A4-BAA1-DD9BC46A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C07340-9564-445A-B3C6-614DA545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D0620E-897D-4F9A-9D76-4371087B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F2C2D-5362-4E40-85DC-52B92F8D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3A134-2E3D-4727-8288-46BA81F9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944B5D-EB92-44E9-A009-3E768998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2BE958-C6A5-41EC-A9F5-288AC457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3270AF-105B-4882-A34E-3455B165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BEF07A-065A-499E-9BE4-F6D61FEE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4AA3B4-5F5D-4252-8154-4C54FC62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7DA3-14ED-4217-8CDE-E5C56220813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CCF3C2-DD32-4ADC-8C73-382F097C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38A174-FB93-42C6-8652-9F036A1E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4438D4-FAB4-416E-A0D2-7389584B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D0F15D-3945-4629-9414-8AB45B30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B9598D-BC0C-4FE8-80D7-DB40D563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BC280C-4E22-4C42-B1F8-1FA82F31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0008E8-8BD3-4280-90DA-BD47FF07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C8D48D-15B5-4F15-86A9-2312BF1D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DF09D8-2B61-486B-B941-EE057058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4984C6-846B-46AA-A21D-D3E496BB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R – IEN 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1A756-BB3E-480C-83E8-39E29CB01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0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8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9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4C8F6-33B2-41EB-B451-50861D145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5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1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2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78AB4-924B-4595-8687-F9BAB34E7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9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A9611-26D6-4170-8431-A145595FF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54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6"/>
          </p:nvPr>
        </p:nvSpPr>
        <p:spPr>
          <a:xfrm>
            <a:off x="394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57396-3814-4ACB-A426-76BAADF4ED2E}" type="datetime">
              <a:rPr b="0" lang="fr-FR" sz="24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7"/>
          </p:nvPr>
        </p:nvSpPr>
        <p:spPr>
          <a:xfrm>
            <a:off x="2555640" y="6381360"/>
            <a:ext cx="460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CA89D-D637-46F3-8E01-0D19BDE33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70B24-3902-4604-87BF-D4ACF8A34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8F9BA-1EA7-4769-A87D-42763DA00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13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0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1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B3D37-2F71-460C-ACBC-2CB16DB6D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3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4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389CB-E4BC-4226-8FFF-2E4FB50DA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22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6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7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E26CD-E65B-4B7C-B881-359FC4E32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9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0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5CE80-5667-45FC-8C22-6347401D9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31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2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3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CDBC5-C92B-4C07-A2B1-EEB032686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36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9BFBB-C082-47C8-9A27-D42E6B1DA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88720" y="179676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adaptation des parcours de 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240" y="3855600"/>
            <a:ext cx="759924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outils de l’adaptation des parcours : passerelles, modularisation, accompagnement personnalisé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76160" y="36000"/>
            <a:ext cx="74674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1346040" y="1133640"/>
            <a:ext cx="7534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éférentiel de certification est découpé en unités de formation et en modules valida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mpétences terminales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s de formation sont regroupées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nités de certific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règlement d’examen). Seules ces unités son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ertifiant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s de formation et les modules constitutifs seron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alid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u fur et à mesure des acquisitions, éventuellement en C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que unité de formation et chaque module doit permettre d’acquérir un nombre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rédits ECTS défin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La proposition d’attribution des ces crédits relève de l’établissement scolaire à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’exception des crédits relevant du jury du B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Grouper 31"/>
          <p:cNvGrpSpPr/>
          <p:nvPr/>
        </p:nvGrpSpPr>
        <p:grpSpPr>
          <a:xfrm>
            <a:off x="5591160" y="2608200"/>
            <a:ext cx="1574640" cy="3538440"/>
            <a:chOff x="5591160" y="2608200"/>
            <a:chExt cx="1574640" cy="3538440"/>
          </a:xfrm>
        </p:grpSpPr>
        <p:sp>
          <p:nvSpPr>
            <p:cNvPr id="687" name="Rectangle 26"/>
            <p:cNvSpPr/>
            <p:nvPr/>
          </p:nvSpPr>
          <p:spPr>
            <a:xfrm>
              <a:off x="5591160" y="2608200"/>
              <a:ext cx="352440" cy="3538440"/>
            </a:xfrm>
            <a:prstGeom prst="rect">
              <a:avLst/>
            </a:prstGeom>
            <a:gradFill rotWithShape="0">
              <a:gsLst>
                <a:gs pos="0">
                  <a:srgbClr val="3f80cd"/>
                </a:gs>
                <a:gs pos="100000">
                  <a:srgbClr val="9bc1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ZoneTexte 27"/>
            <p:cNvSpPr/>
            <p:nvPr/>
          </p:nvSpPr>
          <p:spPr>
            <a:xfrm>
              <a:off x="5960160" y="5777280"/>
              <a:ext cx="12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7"/>
          <p:cNvSpPr/>
          <p:nvPr/>
        </p:nvSpPr>
        <p:spPr>
          <a:xfrm>
            <a:off x="1544760" y="12715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chéma d’enseignement respectant une chronologie propre à chaque discipline élaborée à partir du référentiel du diplô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1701720" y="2679840"/>
            <a:ext cx="1270080" cy="380880"/>
          </a:xfrm>
          <a:prstGeom prst="rect">
            <a:avLst/>
          </a:prstGeom>
          <a:solidFill>
            <a:srgbClr val="e85d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écan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>
            <a:off x="1555920" y="2463840"/>
            <a:ext cx="745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6"/>
          <p:cNvSpPr/>
          <p:nvPr/>
        </p:nvSpPr>
        <p:spPr>
          <a:xfrm>
            <a:off x="386244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8"/>
          <p:cNvSpPr/>
          <p:nvPr/>
        </p:nvSpPr>
        <p:spPr>
          <a:xfrm>
            <a:off x="5049720" y="239076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9"/>
          <p:cNvSpPr/>
          <p:nvPr/>
        </p:nvSpPr>
        <p:spPr>
          <a:xfrm>
            <a:off x="559116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30"/>
          <p:cNvSpPr/>
          <p:nvPr/>
        </p:nvSpPr>
        <p:spPr>
          <a:xfrm>
            <a:off x="616752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31"/>
          <p:cNvSpPr/>
          <p:nvPr/>
        </p:nvSpPr>
        <p:spPr>
          <a:xfrm>
            <a:off x="674208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32"/>
          <p:cNvSpPr/>
          <p:nvPr/>
        </p:nvSpPr>
        <p:spPr>
          <a:xfrm>
            <a:off x="731844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33"/>
          <p:cNvSpPr/>
          <p:nvPr/>
        </p:nvSpPr>
        <p:spPr>
          <a:xfrm>
            <a:off x="782316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34"/>
          <p:cNvSpPr/>
          <p:nvPr/>
        </p:nvSpPr>
        <p:spPr>
          <a:xfrm>
            <a:off x="839952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36"/>
          <p:cNvSpPr/>
          <p:nvPr/>
        </p:nvSpPr>
        <p:spPr>
          <a:xfrm>
            <a:off x="443880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459240" y="2079720"/>
            <a:ext cx="5273640" cy="380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chaînement disciplinaire en centres d’intérê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Diagramme 45" descr=""/>
          <p:cNvPicPr/>
          <p:nvPr/>
        </p:nvPicPr>
        <p:blipFill>
          <a:blip r:embed="rId1"/>
          <a:stretch/>
        </p:blipFill>
        <p:spPr>
          <a:xfrm>
            <a:off x="3309840" y="2554200"/>
            <a:ext cx="5608800" cy="63972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13"/>
          <p:cNvSpPr/>
          <p:nvPr/>
        </p:nvSpPr>
        <p:spPr>
          <a:xfrm rot="16200000">
            <a:off x="46440" y="3936240"/>
            <a:ext cx="2759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Connaissances du référe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3"/>
          <p:cNvGrpSpPr/>
          <p:nvPr/>
        </p:nvGrpSpPr>
        <p:grpSpPr>
          <a:xfrm>
            <a:off x="1679400" y="3119400"/>
            <a:ext cx="7648560" cy="2949120"/>
            <a:chOff x="1679400" y="3119400"/>
            <a:chExt cx="7648560" cy="2949120"/>
          </a:xfrm>
        </p:grpSpPr>
        <p:sp>
          <p:nvSpPr>
            <p:cNvPr id="705" name="Text Box 16"/>
            <p:cNvSpPr/>
            <p:nvPr/>
          </p:nvSpPr>
          <p:spPr>
            <a:xfrm>
              <a:off x="1679400" y="3240000"/>
              <a:ext cx="1366920" cy="382320"/>
            </a:xfrm>
            <a:prstGeom prst="rect">
              <a:avLst/>
            </a:prstGeom>
            <a:solidFill>
              <a:srgbClr val="b4df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Automat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22"/>
            <p:cNvSpPr/>
            <p:nvPr/>
          </p:nvSpPr>
          <p:spPr>
            <a:xfrm>
              <a:off x="1716120" y="3851280"/>
              <a:ext cx="1366560" cy="381240"/>
            </a:xfrm>
            <a:prstGeom prst="rect">
              <a:avLst/>
            </a:prstGeom>
            <a:solidFill>
              <a:srgbClr val="bb9c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23"/>
            <p:cNvSpPr/>
            <p:nvPr/>
          </p:nvSpPr>
          <p:spPr>
            <a:xfrm>
              <a:off x="1716120" y="4496400"/>
              <a:ext cx="1366560" cy="380880"/>
            </a:xfrm>
            <a:prstGeom prst="rect">
              <a:avLst/>
            </a:prstGeom>
            <a:solidFill>
              <a:srgbClr val="6dda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Math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42"/>
            <p:cNvSpPr/>
            <p:nvPr/>
          </p:nvSpPr>
          <p:spPr>
            <a:xfrm>
              <a:off x="1716120" y="5090400"/>
              <a:ext cx="1366560" cy="380880"/>
            </a:xfrm>
            <a:prstGeom prst="rect">
              <a:avLst/>
            </a:prstGeom>
            <a:solidFill>
              <a:srgbClr val="ffb4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hys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Diagramme 46" descr=""/>
            <p:cNvPicPr/>
            <p:nvPr/>
          </p:nvPicPr>
          <p:blipFill>
            <a:blip r:embed="rId2"/>
            <a:stretch/>
          </p:blipFill>
          <p:spPr>
            <a:xfrm>
              <a:off x="3294000" y="3119400"/>
              <a:ext cx="602316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Diagramme 47" descr=""/>
            <p:cNvPicPr/>
            <p:nvPr/>
          </p:nvPicPr>
          <p:blipFill>
            <a:blip r:embed="rId3"/>
            <a:stretch/>
          </p:blipFill>
          <p:spPr>
            <a:xfrm>
              <a:off x="3311280" y="3716640"/>
              <a:ext cx="60058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Diagramme 48" descr=""/>
            <p:cNvPicPr/>
            <p:nvPr/>
          </p:nvPicPr>
          <p:blipFill>
            <a:blip r:embed="rId4"/>
            <a:stretch/>
          </p:blipFill>
          <p:spPr>
            <a:xfrm>
              <a:off x="3294000" y="4369320"/>
              <a:ext cx="602316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Diagramme 25" descr=""/>
            <p:cNvPicPr/>
            <p:nvPr/>
          </p:nvPicPr>
          <p:blipFill>
            <a:blip r:embed="rId5"/>
            <a:stretch/>
          </p:blipFill>
          <p:spPr>
            <a:xfrm>
              <a:off x="3305160" y="4979160"/>
              <a:ext cx="6022800" cy="6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 Box 42"/>
            <p:cNvSpPr/>
            <p:nvPr/>
          </p:nvSpPr>
          <p:spPr>
            <a:xfrm>
              <a:off x="1716120" y="5687640"/>
              <a:ext cx="1366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Autre 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gression pédagogique disciplin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103"/>
          <p:cNvSpPr/>
          <p:nvPr/>
        </p:nvSpPr>
        <p:spPr>
          <a:xfrm>
            <a:off x="4330800" y="4605480"/>
            <a:ext cx="2415960" cy="979200"/>
          </a:xfrm>
          <a:prstGeom prst="rect">
            <a:avLst/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ule N°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er 69"/>
          <p:cNvGrpSpPr/>
          <p:nvPr/>
        </p:nvGrpSpPr>
        <p:grpSpPr>
          <a:xfrm>
            <a:off x="5076720" y="2682720"/>
            <a:ext cx="1204920" cy="3538800"/>
            <a:chOff x="5076720" y="2682720"/>
            <a:chExt cx="1204920" cy="3538800"/>
          </a:xfrm>
        </p:grpSpPr>
        <p:sp>
          <p:nvSpPr>
            <p:cNvPr id="717" name="Rectangle 70"/>
            <p:cNvSpPr/>
            <p:nvPr/>
          </p:nvSpPr>
          <p:spPr>
            <a:xfrm>
              <a:off x="5921280" y="2682720"/>
              <a:ext cx="352440" cy="35388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ZoneTexte 71"/>
            <p:cNvSpPr/>
            <p:nvPr/>
          </p:nvSpPr>
          <p:spPr>
            <a:xfrm>
              <a:off x="5076720" y="585216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 Box 9"/>
          <p:cNvSpPr/>
          <p:nvPr/>
        </p:nvSpPr>
        <p:spPr>
          <a:xfrm>
            <a:off x="1701720" y="2679840"/>
            <a:ext cx="1270080" cy="380880"/>
          </a:xfrm>
          <a:prstGeom prst="rect">
            <a:avLst/>
          </a:prstGeom>
          <a:solidFill>
            <a:srgbClr val="e85d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écan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 rot="16200000">
            <a:off x="44640" y="3936240"/>
            <a:ext cx="2759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Connaissances du référe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6"/>
          <p:cNvSpPr/>
          <p:nvPr/>
        </p:nvSpPr>
        <p:spPr>
          <a:xfrm>
            <a:off x="1701720" y="3321000"/>
            <a:ext cx="1403280" cy="380880"/>
          </a:xfrm>
          <a:prstGeom prst="rect">
            <a:avLst/>
          </a:prstGeom>
          <a:solidFill>
            <a:srgbClr val="b4df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uto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2"/>
          <p:cNvSpPr/>
          <p:nvPr/>
        </p:nvSpPr>
        <p:spPr>
          <a:xfrm>
            <a:off x="1738440" y="3930480"/>
            <a:ext cx="1388880" cy="381240"/>
          </a:xfrm>
          <a:prstGeom prst="rect">
            <a:avLst/>
          </a:prstGeom>
          <a:solidFill>
            <a:srgbClr val="bb9c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3"/>
          <p:cNvSpPr/>
          <p:nvPr/>
        </p:nvSpPr>
        <p:spPr>
          <a:xfrm>
            <a:off x="1738440" y="4575240"/>
            <a:ext cx="1269720" cy="380880"/>
          </a:xfrm>
          <a:prstGeom prst="rect">
            <a:avLst/>
          </a:prstGeom>
          <a:solidFill>
            <a:srgbClr val="6dda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2"/>
          <p:cNvSpPr/>
          <p:nvPr/>
        </p:nvSpPr>
        <p:spPr>
          <a:xfrm>
            <a:off x="1738440" y="5168880"/>
            <a:ext cx="1269720" cy="380880"/>
          </a:xfrm>
          <a:prstGeom prst="rect">
            <a:avLst/>
          </a:prstGeom>
          <a:solidFill>
            <a:srgbClr val="ffb4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hys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42"/>
          <p:cNvSpPr/>
          <p:nvPr/>
        </p:nvSpPr>
        <p:spPr>
          <a:xfrm>
            <a:off x="1738440" y="5765760"/>
            <a:ext cx="12697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utre 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er 35"/>
          <p:cNvGrpSpPr/>
          <p:nvPr/>
        </p:nvGrpSpPr>
        <p:grpSpPr>
          <a:xfrm>
            <a:off x="3457440" y="2692440"/>
            <a:ext cx="2448000" cy="2892240"/>
            <a:chOff x="3457440" y="2692440"/>
            <a:chExt cx="2448000" cy="2892240"/>
          </a:xfrm>
        </p:grpSpPr>
        <p:sp>
          <p:nvSpPr>
            <p:cNvPr id="727" name="Rectangle 100"/>
            <p:cNvSpPr/>
            <p:nvPr/>
          </p:nvSpPr>
          <p:spPr>
            <a:xfrm>
              <a:off x="3457440" y="2692440"/>
              <a:ext cx="2448000" cy="1652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Module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01"/>
            <p:cNvSpPr/>
            <p:nvPr/>
          </p:nvSpPr>
          <p:spPr>
            <a:xfrm>
              <a:off x="3517560" y="5170320"/>
              <a:ext cx="826920" cy="4143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02"/>
            <p:cNvSpPr/>
            <p:nvPr/>
          </p:nvSpPr>
          <p:spPr>
            <a:xfrm>
              <a:off x="3487320" y="4589280"/>
              <a:ext cx="825480" cy="4125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er 36"/>
          <p:cNvGrpSpPr/>
          <p:nvPr/>
        </p:nvGrpSpPr>
        <p:grpSpPr>
          <a:xfrm>
            <a:off x="6281640" y="2692440"/>
            <a:ext cx="1684440" cy="3529080"/>
            <a:chOff x="6281640" y="2692440"/>
            <a:chExt cx="1684440" cy="3529080"/>
          </a:xfrm>
        </p:grpSpPr>
        <p:sp>
          <p:nvSpPr>
            <p:cNvPr id="731" name="Rectangle 28"/>
            <p:cNvSpPr/>
            <p:nvPr/>
          </p:nvSpPr>
          <p:spPr>
            <a:xfrm>
              <a:off x="6742080" y="4605480"/>
              <a:ext cx="1224000" cy="161604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04"/>
            <p:cNvSpPr/>
            <p:nvPr/>
          </p:nvSpPr>
          <p:spPr>
            <a:xfrm>
              <a:off x="6281640" y="2692440"/>
              <a:ext cx="1684440" cy="166860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Module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er 29"/>
          <p:cNvGrpSpPr/>
          <p:nvPr/>
        </p:nvGrpSpPr>
        <p:grpSpPr>
          <a:xfrm>
            <a:off x="1555920" y="2079720"/>
            <a:ext cx="7453080" cy="3695760"/>
            <a:chOff x="1555920" y="2079720"/>
            <a:chExt cx="7453080" cy="3695760"/>
          </a:xfrm>
        </p:grpSpPr>
        <p:sp>
          <p:nvSpPr>
            <p:cNvPr id="734" name="Line 25"/>
            <p:cNvSpPr/>
            <p:nvPr/>
          </p:nvSpPr>
          <p:spPr>
            <a:xfrm>
              <a:off x="1555920" y="2464200"/>
              <a:ext cx="74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6"/>
            <p:cNvSpPr/>
            <p:nvPr/>
          </p:nvSpPr>
          <p:spPr>
            <a:xfrm>
              <a:off x="386244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28"/>
            <p:cNvSpPr/>
            <p:nvPr/>
          </p:nvSpPr>
          <p:spPr>
            <a:xfrm>
              <a:off x="5049720" y="23911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29"/>
            <p:cNvSpPr/>
            <p:nvPr/>
          </p:nvSpPr>
          <p:spPr>
            <a:xfrm>
              <a:off x="559116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0"/>
            <p:cNvSpPr/>
            <p:nvPr/>
          </p:nvSpPr>
          <p:spPr>
            <a:xfrm>
              <a:off x="616752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31"/>
            <p:cNvSpPr/>
            <p:nvPr/>
          </p:nvSpPr>
          <p:spPr>
            <a:xfrm>
              <a:off x="674208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32"/>
            <p:cNvSpPr/>
            <p:nvPr/>
          </p:nvSpPr>
          <p:spPr>
            <a:xfrm>
              <a:off x="731844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33"/>
            <p:cNvSpPr/>
            <p:nvPr/>
          </p:nvSpPr>
          <p:spPr>
            <a:xfrm>
              <a:off x="782316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443880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9"/>
            <p:cNvSpPr/>
            <p:nvPr/>
          </p:nvSpPr>
          <p:spPr>
            <a:xfrm>
              <a:off x="3459240" y="2079720"/>
              <a:ext cx="5273640" cy="3808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Enchaînement de modules de 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4"/>
            <p:cNvSpPr/>
            <p:nvPr/>
          </p:nvSpPr>
          <p:spPr>
            <a:xfrm>
              <a:off x="839952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Rectangle 30"/>
          <p:cNvSpPr/>
          <p:nvPr/>
        </p:nvSpPr>
        <p:spPr>
          <a:xfrm>
            <a:off x="7035840" y="3321000"/>
            <a:ext cx="1698480" cy="1040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er 31"/>
          <p:cNvGrpSpPr/>
          <p:nvPr/>
        </p:nvGrpSpPr>
        <p:grpSpPr>
          <a:xfrm>
            <a:off x="7985160" y="2679840"/>
            <a:ext cx="1351080" cy="3538440"/>
            <a:chOff x="7985160" y="2679840"/>
            <a:chExt cx="1351080" cy="3538440"/>
          </a:xfrm>
        </p:grpSpPr>
        <p:sp>
          <p:nvSpPr>
            <p:cNvPr id="747" name="Rectangle 33"/>
            <p:cNvSpPr/>
            <p:nvPr/>
          </p:nvSpPr>
          <p:spPr>
            <a:xfrm>
              <a:off x="7985160" y="2679840"/>
              <a:ext cx="352440" cy="3538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ZoneTexte 32"/>
            <p:cNvSpPr/>
            <p:nvPr/>
          </p:nvSpPr>
          <p:spPr>
            <a:xfrm>
              <a:off x="8131320" y="584892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gression pédagogique modul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AutoShape 22"/>
          <p:cNvSpPr/>
          <p:nvPr/>
        </p:nvSpPr>
        <p:spPr>
          <a:xfrm>
            <a:off x="484200" y="3543480"/>
            <a:ext cx="1127160" cy="714240"/>
          </a:xfrm>
          <a:prstGeom prst="rightArrow">
            <a:avLst>
              <a:gd name="adj1" fmla="val 50000"/>
              <a:gd name="adj2" fmla="val 3945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Mise à niv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21"/>
          <p:cNvSpPr/>
          <p:nvPr/>
        </p:nvSpPr>
        <p:spPr>
          <a:xfrm>
            <a:off x="492120" y="1808280"/>
            <a:ext cx="1092240" cy="698400"/>
          </a:xfrm>
          <a:prstGeom prst="rightArrow">
            <a:avLst>
              <a:gd name="adj1" fmla="val 50000"/>
              <a:gd name="adj2" fmla="val 39098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ronc comm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6"/>
          <p:cNvSpPr/>
          <p:nvPr/>
        </p:nvSpPr>
        <p:spPr>
          <a:xfrm rot="16200000">
            <a:off x="-1722600" y="2881440"/>
            <a:ext cx="4141800" cy="337320"/>
          </a:xfrm>
          <a:prstGeom prst="rect">
            <a:avLst/>
          </a:prstGeom>
          <a:solidFill>
            <a:srgbClr val="ffee93"/>
          </a:solidFill>
          <a:ln w="9360">
            <a:solidFill>
              <a:srgbClr val="ffee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onctionnement à mettre en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85"/>
          <p:cNvSpPr/>
          <p:nvPr/>
        </p:nvSpPr>
        <p:spPr>
          <a:xfrm>
            <a:off x="3456000" y="1089000"/>
            <a:ext cx="936720" cy="2303640"/>
          </a:xfrm>
          <a:prstGeom prst="rightArrow">
            <a:avLst>
              <a:gd name="adj1" fmla="val 64296"/>
              <a:gd name="adj2" fmla="val 4708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0"/>
          <p:cNvSpPr/>
          <p:nvPr/>
        </p:nvSpPr>
        <p:spPr>
          <a:xfrm rot="16200000">
            <a:off x="419040" y="3806640"/>
            <a:ext cx="5834160" cy="252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Revue de proje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74"/>
          <p:cNvSpPr/>
          <p:nvPr/>
        </p:nvSpPr>
        <p:spPr>
          <a:xfrm>
            <a:off x="1763640" y="3987720"/>
            <a:ext cx="2592360" cy="486000"/>
          </a:xfrm>
          <a:prstGeom prst="rightArrow">
            <a:avLst>
              <a:gd name="adj1" fmla="val 50000"/>
              <a:gd name="adj2" fmla="val 133352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ccompag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58"/>
          <p:cNvSpPr/>
          <p:nvPr/>
        </p:nvSpPr>
        <p:spPr>
          <a:xfrm>
            <a:off x="1763640" y="3392640"/>
            <a:ext cx="2592360" cy="541080"/>
          </a:xfrm>
          <a:prstGeom prst="rightArrow">
            <a:avLst>
              <a:gd name="adj1" fmla="val 50000"/>
              <a:gd name="adj2" fmla="val 119777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Enseignements transversaux en comm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28"/>
          <p:cNvSpPr/>
          <p:nvPr/>
        </p:nvSpPr>
        <p:spPr>
          <a:xfrm>
            <a:off x="1800360" y="1089000"/>
            <a:ext cx="1403280" cy="2232000"/>
          </a:xfrm>
          <a:prstGeom prst="rightArrow">
            <a:avLst>
              <a:gd name="adj1" fmla="val 61880"/>
              <a:gd name="adj2" fmla="val 256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uroplastic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"/>
          <p:cNvSpPr/>
          <p:nvPr/>
        </p:nvSpPr>
        <p:spPr>
          <a:xfrm rot="16200000">
            <a:off x="-1238040" y="3803040"/>
            <a:ext cx="5869080" cy="223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émarche de projet ingénierie simultanée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92"/>
          <p:cNvSpPr/>
          <p:nvPr/>
        </p:nvSpPr>
        <p:spPr>
          <a:xfrm>
            <a:off x="4572000" y="3290760"/>
            <a:ext cx="658800" cy="1182960"/>
          </a:xfrm>
          <a:prstGeom prst="rightArrow">
            <a:avLst>
              <a:gd name="adj1" fmla="val 51676"/>
              <a:gd name="adj2" fmla="val 3590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Mi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iv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36"/>
          <p:cNvSpPr/>
          <p:nvPr/>
        </p:nvSpPr>
        <p:spPr>
          <a:xfrm>
            <a:off x="4594320" y="1808280"/>
            <a:ext cx="662040" cy="89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9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ro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comm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9"/>
          <p:cNvSpPr/>
          <p:nvPr/>
        </p:nvSpPr>
        <p:spPr>
          <a:xfrm rot="16200000">
            <a:off x="1582560" y="3789000"/>
            <a:ext cx="5869080" cy="252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tage industrie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9"/>
          <p:cNvSpPr/>
          <p:nvPr/>
        </p:nvSpPr>
        <p:spPr>
          <a:xfrm>
            <a:off x="8172360" y="2421000"/>
            <a:ext cx="430200" cy="901800"/>
          </a:xfrm>
          <a:prstGeom prst="rightArrow">
            <a:avLst>
              <a:gd name="adj1" fmla="val 70074"/>
              <a:gd name="adj2" fmla="val 467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3"/>
          <p:cNvSpPr/>
          <p:nvPr/>
        </p:nvSpPr>
        <p:spPr>
          <a:xfrm rot="16200000">
            <a:off x="5792040" y="4440600"/>
            <a:ext cx="4545000" cy="289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duire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88"/>
          <p:cNvSpPr/>
          <p:nvPr/>
        </p:nvSpPr>
        <p:spPr>
          <a:xfrm>
            <a:off x="6985080" y="2349360"/>
            <a:ext cx="1042920" cy="1044720"/>
          </a:xfrm>
          <a:prstGeom prst="rightArrow">
            <a:avLst>
              <a:gd name="adj1" fmla="val 70074"/>
              <a:gd name="adj2" fmla="val 2852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87"/>
          <p:cNvSpPr/>
          <p:nvPr/>
        </p:nvSpPr>
        <p:spPr>
          <a:xfrm>
            <a:off x="6985080" y="1015920"/>
            <a:ext cx="1619280" cy="1295640"/>
          </a:xfrm>
          <a:prstGeom prst="rightArrow">
            <a:avLst>
              <a:gd name="adj1" fmla="val 72056"/>
              <a:gd name="adj2" fmla="val 5878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86"/>
          <p:cNvSpPr/>
          <p:nvPr/>
        </p:nvSpPr>
        <p:spPr>
          <a:xfrm>
            <a:off x="5508720" y="1125360"/>
            <a:ext cx="1258920" cy="2303640"/>
          </a:xfrm>
          <a:prstGeom prst="rightArrow">
            <a:avLst>
              <a:gd name="adj1" fmla="val 64296"/>
              <a:gd name="adj2" fmla="val 4708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8"/>
          <p:cNvSpPr/>
          <p:nvPr/>
        </p:nvSpPr>
        <p:spPr>
          <a:xfrm rot="16200000">
            <a:off x="2465280" y="3771360"/>
            <a:ext cx="5869080" cy="287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émarche de projet ingénierie simultané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2"/>
          <p:cNvSpPr/>
          <p:nvPr/>
        </p:nvSpPr>
        <p:spPr>
          <a:xfrm rot="16200000">
            <a:off x="5812560" y="3777120"/>
            <a:ext cx="5877000" cy="28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amens: </a:t>
            </a:r>
            <a:r>
              <a:rPr b="1" i="1" lang="fr-FR" sz="1200" spc="-1" strike="noStrike">
                <a:solidFill>
                  <a:srgbClr val="000000"/>
                </a:solidFill>
                <a:latin typeface="Calibri"/>
              </a:rPr>
              <a:t>BTS CPI, BTS ERO, BTS Euro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4"/>
          <p:cNvSpPr/>
          <p:nvPr/>
        </p:nvSpPr>
        <p:spPr>
          <a:xfrm rot="16200000">
            <a:off x="4597560" y="4435560"/>
            <a:ext cx="4581360" cy="2635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tage europé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75"/>
          <p:cNvGrpSpPr/>
          <p:nvPr/>
        </p:nvGrpSpPr>
        <p:grpSpPr>
          <a:xfrm>
            <a:off x="468360" y="5192640"/>
            <a:ext cx="3935520" cy="1623960"/>
            <a:chOff x="468360" y="5192640"/>
            <a:chExt cx="3935520" cy="1623960"/>
          </a:xfrm>
        </p:grpSpPr>
        <p:sp>
          <p:nvSpPr>
            <p:cNvPr id="771" name="AutoShape 16"/>
            <p:cNvSpPr/>
            <p:nvPr/>
          </p:nvSpPr>
          <p:spPr>
            <a:xfrm>
              <a:off x="471600" y="6311880"/>
              <a:ext cx="3924360" cy="504720"/>
            </a:xfrm>
            <a:prstGeom prst="rightArrow">
              <a:avLst>
                <a:gd name="adj1" fmla="val 50000"/>
                <a:gd name="adj2" fmla="val 194383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-  E.R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17"/>
            <p:cNvSpPr/>
            <p:nvPr/>
          </p:nvSpPr>
          <p:spPr>
            <a:xfrm>
              <a:off x="469800" y="5740200"/>
              <a:ext cx="3934080" cy="500040"/>
            </a:xfrm>
            <a:prstGeom prst="rightArrow">
              <a:avLst>
                <a:gd name="adj1" fmla="val 50000"/>
                <a:gd name="adj2" fmla="val 196688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19"/>
            <p:cNvSpPr/>
            <p:nvPr/>
          </p:nvSpPr>
          <p:spPr>
            <a:xfrm>
              <a:off x="468360" y="5192640"/>
              <a:ext cx="3933720" cy="434880"/>
            </a:xfrm>
            <a:prstGeom prst="rightArrow">
              <a:avLst>
                <a:gd name="adj1" fmla="val 50000"/>
                <a:gd name="adj2" fmla="val 226138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C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76"/>
          <p:cNvGrpSpPr/>
          <p:nvPr/>
        </p:nvGrpSpPr>
        <p:grpSpPr>
          <a:xfrm>
            <a:off x="4608360" y="5192640"/>
            <a:ext cx="3996000" cy="1582920"/>
            <a:chOff x="4608360" y="5192640"/>
            <a:chExt cx="3996000" cy="1582920"/>
          </a:xfrm>
        </p:grpSpPr>
        <p:sp>
          <p:nvSpPr>
            <p:cNvPr id="775" name="AutoShape 32"/>
            <p:cNvSpPr/>
            <p:nvPr/>
          </p:nvSpPr>
          <p:spPr>
            <a:xfrm>
              <a:off x="4611600" y="6343920"/>
              <a:ext cx="3975120" cy="431640"/>
            </a:xfrm>
            <a:prstGeom prst="rightArrow">
              <a:avLst>
                <a:gd name="adj1" fmla="val 50000"/>
                <a:gd name="adj2" fmla="val 23023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-  E.R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33"/>
            <p:cNvSpPr/>
            <p:nvPr/>
          </p:nvSpPr>
          <p:spPr>
            <a:xfrm>
              <a:off x="4610160" y="5807160"/>
              <a:ext cx="2122560" cy="465120"/>
            </a:xfrm>
            <a:prstGeom prst="rightArrow">
              <a:avLst>
                <a:gd name="adj1" fmla="val 50000"/>
                <a:gd name="adj2" fmla="val 11408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34"/>
            <p:cNvSpPr/>
            <p:nvPr/>
          </p:nvSpPr>
          <p:spPr>
            <a:xfrm>
              <a:off x="4608360" y="5192640"/>
              <a:ext cx="3996000" cy="471600"/>
            </a:xfrm>
            <a:prstGeom prst="rightArrow">
              <a:avLst>
                <a:gd name="adj1" fmla="val 50000"/>
                <a:gd name="adj2" fmla="val 211832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C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35"/>
            <p:cNvSpPr/>
            <p:nvPr/>
          </p:nvSpPr>
          <p:spPr>
            <a:xfrm>
              <a:off x="7020000" y="5808600"/>
              <a:ext cx="1576440" cy="463680"/>
            </a:xfrm>
            <a:prstGeom prst="rightArrow">
              <a:avLst>
                <a:gd name="adj1" fmla="val 50000"/>
                <a:gd name="adj2" fmla="val 84996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Rectangle 37"/>
          <p:cNvSpPr/>
          <p:nvPr/>
        </p:nvSpPr>
        <p:spPr>
          <a:xfrm rot="16200000">
            <a:off x="6203160" y="1532520"/>
            <a:ext cx="1380960" cy="25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jet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47"/>
          <p:cNvSpPr/>
          <p:nvPr/>
        </p:nvSpPr>
        <p:spPr>
          <a:xfrm>
            <a:off x="5543640" y="4041720"/>
            <a:ext cx="2665440" cy="503280"/>
          </a:xfrm>
          <a:prstGeom prst="rightArrow">
            <a:avLst>
              <a:gd name="adj1" fmla="val 50000"/>
              <a:gd name="adj2" fmla="val 13240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59"/>
          <p:cNvSpPr/>
          <p:nvPr/>
        </p:nvSpPr>
        <p:spPr>
          <a:xfrm>
            <a:off x="5543640" y="3465360"/>
            <a:ext cx="3024000" cy="576360"/>
          </a:xfrm>
          <a:prstGeom prst="rightArrow">
            <a:avLst>
              <a:gd name="adj1" fmla="val 50000"/>
              <a:gd name="adj2" fmla="val 131168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Enseignements transversaux en comm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61"/>
          <p:cNvSpPr/>
          <p:nvPr/>
        </p:nvSpPr>
        <p:spPr>
          <a:xfrm>
            <a:off x="539640" y="593640"/>
            <a:ext cx="41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° 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5"/>
          <p:cNvSpPr/>
          <p:nvPr/>
        </p:nvSpPr>
        <p:spPr>
          <a:xfrm rot="16200000">
            <a:off x="-533160" y="5654880"/>
            <a:ext cx="1736640" cy="669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Fonctionnemen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actu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67"/>
          <p:cNvSpPr/>
          <p:nvPr/>
        </p:nvSpPr>
        <p:spPr>
          <a:xfrm>
            <a:off x="4643280" y="593640"/>
            <a:ext cx="424980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° 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8"/>
          <p:cNvSpPr/>
          <p:nvPr/>
        </p:nvSpPr>
        <p:spPr>
          <a:xfrm>
            <a:off x="0" y="4428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Organisation fonctionnelle Ingénierie Collaborat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80"/>
          <p:cNvSpPr/>
          <p:nvPr/>
        </p:nvSpPr>
        <p:spPr>
          <a:xfrm>
            <a:off x="5256360" y="4545000"/>
            <a:ext cx="3348000" cy="468360"/>
          </a:xfrm>
          <a:prstGeom prst="rightArrow">
            <a:avLst>
              <a:gd name="adj1" fmla="val 50000"/>
              <a:gd name="adj2" fmla="val 178709"/>
            </a:avLst>
          </a:prstGeom>
          <a:solidFill>
            <a:srgbClr val="ffa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jet collaboratif support d’ex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79"/>
          <p:cNvSpPr/>
          <p:nvPr/>
        </p:nvSpPr>
        <p:spPr>
          <a:xfrm>
            <a:off x="1584360" y="4545000"/>
            <a:ext cx="2806560" cy="431640"/>
          </a:xfrm>
          <a:prstGeom prst="rightArrow">
            <a:avLst>
              <a:gd name="adj1" fmla="val 62833"/>
              <a:gd name="adj2" fmla="val 167398"/>
            </a:avLst>
          </a:prstGeom>
          <a:solidFill>
            <a:srgbClr val="ffa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jet collabora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78"/>
          <p:cNvSpPr/>
          <p:nvPr/>
        </p:nvSpPr>
        <p:spPr>
          <a:xfrm>
            <a:off x="0" y="5121360"/>
            <a:ext cx="9144000" cy="172872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63"/>
          <p:cNvSpPr/>
          <p:nvPr/>
        </p:nvSpPr>
        <p:spPr>
          <a:xfrm>
            <a:off x="0" y="5084640"/>
            <a:ext cx="914400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ZoneTexte 109"/>
          <p:cNvSpPr/>
          <p:nvPr/>
        </p:nvSpPr>
        <p:spPr>
          <a:xfrm>
            <a:off x="6924600" y="5632560"/>
            <a:ext cx="2062080" cy="337320"/>
          </a:xfrm>
          <a:prstGeom prst="rect">
            <a:avLst/>
          </a:prstGeom>
          <a:solidFill>
            <a:srgbClr val="bfe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er 14"/>
          <p:cNvGrpSpPr/>
          <p:nvPr/>
        </p:nvGrpSpPr>
        <p:grpSpPr>
          <a:xfrm>
            <a:off x="1400040" y="1895400"/>
            <a:ext cx="1371600" cy="1056600"/>
            <a:chOff x="1400040" y="1895400"/>
            <a:chExt cx="1371600" cy="1056600"/>
          </a:xfrm>
        </p:grpSpPr>
        <p:sp>
          <p:nvSpPr>
            <p:cNvPr id="595" name="ZoneTexte 3"/>
            <p:cNvSpPr/>
            <p:nvPr/>
          </p:nvSpPr>
          <p:spPr>
            <a:xfrm>
              <a:off x="1400040" y="1895400"/>
              <a:ext cx="1371600" cy="33732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C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ZoneTexte 4"/>
            <p:cNvSpPr/>
            <p:nvPr/>
          </p:nvSpPr>
          <p:spPr>
            <a:xfrm>
              <a:off x="1400040" y="2614680"/>
              <a:ext cx="1371600" cy="33732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C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er 11"/>
          <p:cNvGrpSpPr/>
          <p:nvPr/>
        </p:nvGrpSpPr>
        <p:grpSpPr>
          <a:xfrm>
            <a:off x="3571920" y="1895400"/>
            <a:ext cx="1828800" cy="1818720"/>
            <a:chOff x="3571920" y="1895400"/>
            <a:chExt cx="1828800" cy="1818720"/>
          </a:xfrm>
        </p:grpSpPr>
        <p:sp>
          <p:nvSpPr>
            <p:cNvPr id="598" name="ZoneTexte 5"/>
            <p:cNvSpPr/>
            <p:nvPr/>
          </p:nvSpPr>
          <p:spPr>
            <a:xfrm>
              <a:off x="3571920" y="18954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Second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ZoneTexte 6"/>
            <p:cNvSpPr/>
            <p:nvPr/>
          </p:nvSpPr>
          <p:spPr>
            <a:xfrm>
              <a:off x="3571920" y="26352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remièr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ZoneTexte 7"/>
            <p:cNvSpPr/>
            <p:nvPr/>
          </p:nvSpPr>
          <p:spPr>
            <a:xfrm>
              <a:off x="3571920" y="33768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Terminal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er 12"/>
          <p:cNvGrpSpPr/>
          <p:nvPr/>
        </p:nvGrpSpPr>
        <p:grpSpPr>
          <a:xfrm>
            <a:off x="6129360" y="1897200"/>
            <a:ext cx="2482920" cy="1797840"/>
            <a:chOff x="6129360" y="1897200"/>
            <a:chExt cx="2482920" cy="1797840"/>
          </a:xfrm>
        </p:grpSpPr>
        <p:sp>
          <p:nvSpPr>
            <p:cNvPr id="602" name="ZoneTexte 8"/>
            <p:cNvSpPr/>
            <p:nvPr/>
          </p:nvSpPr>
          <p:spPr>
            <a:xfrm>
              <a:off x="6129360" y="189720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Seconde d’explo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ZoneTexte 9"/>
            <p:cNvSpPr/>
            <p:nvPr/>
          </p:nvSpPr>
          <p:spPr>
            <a:xfrm>
              <a:off x="6129360" y="262728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remière technolog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ZoneTexte 10"/>
            <p:cNvSpPr/>
            <p:nvPr/>
          </p:nvSpPr>
          <p:spPr>
            <a:xfrm>
              <a:off x="6129360" y="335772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Terminale technolog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Flèche vers le bas 38"/>
          <p:cNvSpPr/>
          <p:nvPr/>
        </p:nvSpPr>
        <p:spPr>
          <a:xfrm>
            <a:off x="7191360" y="2246400"/>
            <a:ext cx="380880" cy="3888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lèche vers le bas 82"/>
          <p:cNvSpPr/>
          <p:nvPr/>
        </p:nvSpPr>
        <p:spPr>
          <a:xfrm>
            <a:off x="4371840" y="2235240"/>
            <a:ext cx="381240" cy="4017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lèche vers le bas 96"/>
          <p:cNvSpPr/>
          <p:nvPr/>
        </p:nvSpPr>
        <p:spPr>
          <a:xfrm>
            <a:off x="7191360" y="2963880"/>
            <a:ext cx="380880" cy="376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lèche vers le bas 97"/>
          <p:cNvSpPr/>
          <p:nvPr/>
        </p:nvSpPr>
        <p:spPr>
          <a:xfrm>
            <a:off x="4371840" y="2975040"/>
            <a:ext cx="381240" cy="40140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lèche vers le bas 99"/>
          <p:cNvSpPr/>
          <p:nvPr/>
        </p:nvSpPr>
        <p:spPr>
          <a:xfrm>
            <a:off x="1933560" y="2235240"/>
            <a:ext cx="380880" cy="40176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lèche vers la droite 100"/>
          <p:cNvSpPr/>
          <p:nvPr/>
        </p:nvSpPr>
        <p:spPr>
          <a:xfrm>
            <a:off x="2771640" y="2768760"/>
            <a:ext cx="800280" cy="150480"/>
          </a:xfrm>
          <a:prstGeom prst="rightArrow">
            <a:avLst>
              <a:gd name="adj1" fmla="val 50000"/>
              <a:gd name="adj2" fmla="val 50129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ZoneTexte 101"/>
          <p:cNvSpPr/>
          <p:nvPr/>
        </p:nvSpPr>
        <p:spPr>
          <a:xfrm>
            <a:off x="1389240" y="6283440"/>
            <a:ext cx="6835680" cy="3682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ZoneTexte 102"/>
          <p:cNvSpPr/>
          <p:nvPr/>
        </p:nvSpPr>
        <p:spPr>
          <a:xfrm>
            <a:off x="4925880" y="4138560"/>
            <a:ext cx="2009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TS, DUT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ann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ZoneTexte 103"/>
          <p:cNvSpPr/>
          <p:nvPr/>
        </p:nvSpPr>
        <p:spPr>
          <a:xfrm>
            <a:off x="4919760" y="4519440"/>
            <a:ext cx="20048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TS, DUT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ème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nn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lèche vers le bas 104"/>
          <p:cNvSpPr/>
          <p:nvPr/>
        </p:nvSpPr>
        <p:spPr>
          <a:xfrm>
            <a:off x="6276960" y="3691080"/>
            <a:ext cx="333360" cy="425160"/>
          </a:xfrm>
          <a:prstGeom prst="down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lèche vers le bas 105"/>
          <p:cNvSpPr/>
          <p:nvPr/>
        </p:nvSpPr>
        <p:spPr>
          <a:xfrm>
            <a:off x="4371840" y="3714840"/>
            <a:ext cx="381240" cy="253188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lèche vers le bas 106"/>
          <p:cNvSpPr/>
          <p:nvPr/>
        </p:nvSpPr>
        <p:spPr>
          <a:xfrm>
            <a:off x="1933560" y="2921040"/>
            <a:ext cx="380880" cy="33130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lèche vers le bas 108"/>
          <p:cNvSpPr/>
          <p:nvPr/>
        </p:nvSpPr>
        <p:spPr>
          <a:xfrm>
            <a:off x="5210280" y="3714840"/>
            <a:ext cx="190440" cy="40140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dbebc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ZoneTexte 109"/>
          <p:cNvSpPr/>
          <p:nvPr/>
        </p:nvSpPr>
        <p:spPr>
          <a:xfrm>
            <a:off x="5894280" y="5281560"/>
            <a:ext cx="3097440" cy="337320"/>
          </a:xfrm>
          <a:prstGeom prst="rect">
            <a:avLst/>
          </a:prstGeom>
          <a:solidFill>
            <a:srgbClr val="bfe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ic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lèche vers le bas 110"/>
          <p:cNvSpPr/>
          <p:nvPr/>
        </p:nvSpPr>
        <p:spPr>
          <a:xfrm>
            <a:off x="6200640" y="4842000"/>
            <a:ext cx="201600" cy="4251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lèche vers le bas 112"/>
          <p:cNvSpPr/>
          <p:nvPr/>
        </p:nvSpPr>
        <p:spPr>
          <a:xfrm>
            <a:off x="5137200" y="4842000"/>
            <a:ext cx="407880" cy="1404720"/>
          </a:xfrm>
          <a:prstGeom prst="downArrow">
            <a:avLst>
              <a:gd name="adj1" fmla="val 50194"/>
              <a:gd name="adj2" fmla="val 47865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ZoneTexte 128"/>
          <p:cNvSpPr/>
          <p:nvPr/>
        </p:nvSpPr>
        <p:spPr>
          <a:xfrm>
            <a:off x="1476360" y="1014480"/>
            <a:ext cx="3886200" cy="368280"/>
          </a:xfrm>
          <a:prstGeom prst="rect">
            <a:avLst/>
          </a:prstGeom>
          <a:solidFill>
            <a:srgbClr val="c4bd97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oie professi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ZoneTexte 129"/>
          <p:cNvSpPr/>
          <p:nvPr/>
        </p:nvSpPr>
        <p:spPr>
          <a:xfrm>
            <a:off x="5667480" y="1014480"/>
            <a:ext cx="2895480" cy="368280"/>
          </a:xfrm>
          <a:prstGeom prst="rect">
            <a:avLst/>
          </a:prstGeom>
          <a:solidFill>
            <a:srgbClr val="c4bd97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oie technolo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lèche courbée vers le haut 130"/>
          <p:cNvSpPr/>
          <p:nvPr/>
        </p:nvSpPr>
        <p:spPr>
          <a:xfrm>
            <a:off x="2759040" y="5900760"/>
            <a:ext cx="952560" cy="957240"/>
          </a:xfrm>
          <a:custGeom>
            <a:avLst/>
            <a:gdLst>
              <a:gd name="textAreaLeft" fmla="*/ 148680 w 952560"/>
              <a:gd name="textAreaRight" fmla="*/ 684720 w 952560"/>
              <a:gd name="textAreaTop" fmla="*/ 128160 h 957240"/>
              <a:gd name="textAreaBottom" fmla="*/ 82908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035132"/>
                <a:lnTo>
                  <a:pt x="21388" y="5373"/>
                </a:lnTo>
                <a:lnTo>
                  <a:pt x="16200" y="0"/>
                </a:lnTo>
                <a:lnTo>
                  <a:pt x="10588" y="5373"/>
                </a:lnTo>
                <a:lnTo>
                  <a:pt x="13288" y="5373"/>
                </a:lnTo>
                <a:arcTo wR="6750" hR="21600" stAng="2364868" swAng="2569146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c4bd97"/>
          </a:solidFill>
          <a:ln w="9360">
            <a:solidFill>
              <a:srgbClr val="4a452a"/>
            </a:solidFill>
            <a:miter/>
          </a:ln>
          <a:effectLst>
            <a:outerShdw dist="23040" dir="5400000" blurRad="0" rotWithShape="0">
              <a:srgbClr val="948a54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oneTexte 131"/>
          <p:cNvSpPr/>
          <p:nvPr/>
        </p:nvSpPr>
        <p:spPr>
          <a:xfrm>
            <a:off x="2556000" y="49370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ers tous les diplô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lèche vers le bas 111"/>
          <p:cNvSpPr/>
          <p:nvPr/>
        </p:nvSpPr>
        <p:spPr>
          <a:xfrm>
            <a:off x="6386400" y="5619600"/>
            <a:ext cx="381240" cy="630360"/>
          </a:xfrm>
          <a:prstGeom prst="downArrow">
            <a:avLst>
              <a:gd name="adj1" fmla="val 50000"/>
              <a:gd name="adj2" fmla="val 52895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lèche vers le bas 62"/>
          <p:cNvSpPr/>
          <p:nvPr/>
        </p:nvSpPr>
        <p:spPr>
          <a:xfrm>
            <a:off x="7997760" y="3701880"/>
            <a:ext cx="163440" cy="1555920"/>
          </a:xfrm>
          <a:prstGeom prst="down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itre 1"/>
          <p:cNvSpPr/>
          <p:nvPr/>
        </p:nvSpPr>
        <p:spPr>
          <a:xfrm>
            <a:off x="1252440" y="0"/>
            <a:ext cx="789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s voies de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ZoneTexte 102"/>
          <p:cNvSpPr/>
          <p:nvPr/>
        </p:nvSpPr>
        <p:spPr>
          <a:xfrm>
            <a:off x="6991200" y="4141800"/>
            <a:ext cx="8193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P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oneTexte 103"/>
          <p:cNvSpPr/>
          <p:nvPr/>
        </p:nvSpPr>
        <p:spPr>
          <a:xfrm>
            <a:off x="6991200" y="4522680"/>
            <a:ext cx="8193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P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lèche vers le bas 66"/>
          <p:cNvSpPr/>
          <p:nvPr/>
        </p:nvSpPr>
        <p:spPr>
          <a:xfrm>
            <a:off x="7191360" y="3701880"/>
            <a:ext cx="176400" cy="414360"/>
          </a:xfrm>
          <a:prstGeom prst="downArrow">
            <a:avLst>
              <a:gd name="adj1" fmla="val 50000"/>
              <a:gd name="adj2" fmla="val 4994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lèche vers le bas 39"/>
          <p:cNvSpPr/>
          <p:nvPr/>
        </p:nvSpPr>
        <p:spPr>
          <a:xfrm>
            <a:off x="7191360" y="4862520"/>
            <a:ext cx="380880" cy="243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lèche vers le bas 111"/>
          <p:cNvSpPr/>
          <p:nvPr/>
        </p:nvSpPr>
        <p:spPr>
          <a:xfrm>
            <a:off x="7637400" y="5954760"/>
            <a:ext cx="381240" cy="295200"/>
          </a:xfrm>
          <a:prstGeom prst="downArrow">
            <a:avLst>
              <a:gd name="adj1" fmla="val 50000"/>
              <a:gd name="adj2" fmla="val 60755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lèche vers le bas 111"/>
          <p:cNvSpPr/>
          <p:nvPr/>
        </p:nvSpPr>
        <p:spPr>
          <a:xfrm>
            <a:off x="8480520" y="5965920"/>
            <a:ext cx="223920" cy="596880"/>
          </a:xfrm>
          <a:prstGeom prst="downArrow">
            <a:avLst>
              <a:gd name="adj1" fmla="val 61704"/>
              <a:gd name="adj2" fmla="val 75858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texte en év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206360" y="1393920"/>
            <a:ext cx="77184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 attentes de personnalisation des parcours de formation et des « outils » associé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ompagnement personnalisé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ges ou PFMP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let pédagogique du projet d’établissement : utilisation de la dotation horaire complémentaire, passerell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modularisation des référentiels au service de la diversification des modes de formation (scolaire, apprentissage, formation continue) et de la mixité des publ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passerelles, une procédure à formali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Object 3" descr=""/>
          <p:cNvPicPr/>
          <p:nvPr/>
        </p:nvPicPr>
        <p:blipFill>
          <a:blip r:embed="rId1"/>
          <a:stretch/>
        </p:blipFill>
        <p:spPr>
          <a:xfrm>
            <a:off x="1511280" y="3413160"/>
            <a:ext cx="5295960" cy="3035160"/>
          </a:xfrm>
          <a:prstGeom prst="rect">
            <a:avLst/>
          </a:prstGeom>
          <a:ln w="0">
            <a:noFill/>
          </a:ln>
        </p:spPr>
      </p:pic>
      <p:grpSp>
        <p:nvGrpSpPr>
          <p:cNvPr id="638" name="Group 4"/>
          <p:cNvGrpSpPr/>
          <p:nvPr/>
        </p:nvGrpSpPr>
        <p:grpSpPr>
          <a:xfrm>
            <a:off x="3102120" y="1063800"/>
            <a:ext cx="5829120" cy="3085920"/>
            <a:chOff x="3102120" y="1063800"/>
            <a:chExt cx="5829120" cy="3085920"/>
          </a:xfrm>
        </p:grpSpPr>
        <p:sp>
          <p:nvSpPr>
            <p:cNvPr id="639" name="Oval 5"/>
            <p:cNvSpPr/>
            <p:nvPr/>
          </p:nvSpPr>
          <p:spPr>
            <a:xfrm>
              <a:off x="3102120" y="1225440"/>
              <a:ext cx="2667600" cy="169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6"/>
            <p:cNvSpPr/>
            <p:nvPr/>
          </p:nvSpPr>
          <p:spPr>
            <a:xfrm>
              <a:off x="6263640" y="1225440"/>
              <a:ext cx="2667600" cy="169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WordArt 7"/>
            <p:cNvSpPr txBox="1"/>
            <p:nvPr/>
          </p:nvSpPr>
          <p:spPr>
            <a:xfrm>
              <a:off x="3102120" y="2761560"/>
              <a:ext cx="2560320" cy="22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Formation d'origin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2" name="WordArt 8"/>
            <p:cNvSpPr txBox="1"/>
            <p:nvPr/>
          </p:nvSpPr>
          <p:spPr>
            <a:xfrm>
              <a:off x="6164640" y="2761560"/>
              <a:ext cx="2560680" cy="16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Formation d'arrivé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3" name="Text Box 9"/>
            <p:cNvSpPr/>
            <p:nvPr/>
          </p:nvSpPr>
          <p:spPr>
            <a:xfrm>
              <a:off x="3595680" y="1387080"/>
              <a:ext cx="595080" cy="84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0"/>
            <p:cNvSpPr/>
            <p:nvPr/>
          </p:nvSpPr>
          <p:spPr>
            <a:xfrm>
              <a:off x="4781520" y="1063800"/>
              <a:ext cx="887040" cy="89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11"/>
            <p:cNvSpPr/>
            <p:nvPr/>
          </p:nvSpPr>
          <p:spPr>
            <a:xfrm>
              <a:off x="7548120" y="3085200"/>
              <a:ext cx="1183680" cy="85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12"/>
            <p:cNvSpPr/>
            <p:nvPr/>
          </p:nvSpPr>
          <p:spPr>
            <a:xfrm>
              <a:off x="6559920" y="1144800"/>
              <a:ext cx="985680" cy="75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13"/>
            <p:cNvSpPr/>
            <p:nvPr/>
          </p:nvSpPr>
          <p:spPr>
            <a:xfrm>
              <a:off x="4287240" y="1629720"/>
              <a:ext cx="395640" cy="241920"/>
            </a:xfrm>
            <a:custGeom>
              <a:avLst/>
              <a:gdLst>
                <a:gd name="textAreaLeft" fmla="*/ 61560 w 395640"/>
                <a:gd name="textAreaRight" fmla="*/ 346320 w 395640"/>
                <a:gd name="textAreaTop" fmla="*/ 60480 h 241920"/>
                <a:gd name="textAreaBottom" fmla="*/ 181800 h 24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14"/>
            <p:cNvSpPr/>
            <p:nvPr/>
          </p:nvSpPr>
          <p:spPr>
            <a:xfrm rot="3900000">
              <a:off x="7337520" y="2230200"/>
              <a:ext cx="727560" cy="296280"/>
            </a:xfrm>
            <a:custGeom>
              <a:avLst/>
              <a:gdLst>
                <a:gd name="textAreaLeft" fmla="*/ 113400 w 727560"/>
                <a:gd name="textAreaRight" fmla="*/ 636480 w 727560"/>
                <a:gd name="textAreaTop" fmla="*/ 74160 h 296280"/>
                <a:gd name="textAreaBottom" fmla="*/ 222120 h 29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15"/>
            <p:cNvSpPr/>
            <p:nvPr/>
          </p:nvSpPr>
          <p:spPr>
            <a:xfrm>
              <a:off x="5868360" y="1387080"/>
              <a:ext cx="394920" cy="242640"/>
            </a:xfrm>
            <a:custGeom>
              <a:avLst/>
              <a:gdLst>
                <a:gd name="textAreaLeft" fmla="*/ 61560 w 394920"/>
                <a:gd name="textAreaRight" fmla="*/ 345600 w 394920"/>
                <a:gd name="textAreaTop" fmla="*/ 60840 h 242640"/>
                <a:gd name="textAreaBottom" fmla="*/ 181800 h 2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WordArt 16"/>
            <p:cNvSpPr txBox="1"/>
            <p:nvPr/>
          </p:nvSpPr>
          <p:spPr>
            <a:xfrm>
              <a:off x="3595680" y="2195640"/>
              <a:ext cx="527040" cy="17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1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1" name="WordArt 17"/>
            <p:cNvSpPr txBox="1"/>
            <p:nvPr/>
          </p:nvSpPr>
          <p:spPr>
            <a:xfrm>
              <a:off x="6658560" y="187200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3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2" name="WordArt 18"/>
            <p:cNvSpPr txBox="1"/>
            <p:nvPr/>
          </p:nvSpPr>
          <p:spPr>
            <a:xfrm>
              <a:off x="4978800" y="195336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2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3" name="WordArt 19"/>
            <p:cNvSpPr txBox="1"/>
            <p:nvPr/>
          </p:nvSpPr>
          <p:spPr>
            <a:xfrm>
              <a:off x="7646760" y="397476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4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4" name="WordArt 20"/>
            <p:cNvSpPr txBox="1"/>
            <p:nvPr/>
          </p:nvSpPr>
          <p:spPr>
            <a:xfrm>
              <a:off x="3595680" y="239868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Repérage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+ info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5" name="WordArt 21"/>
            <p:cNvSpPr txBox="1"/>
            <p:nvPr/>
          </p:nvSpPr>
          <p:spPr>
            <a:xfrm>
              <a:off x="4978800" y="215604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lan de 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réparation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6" name="WordArt 22"/>
            <p:cNvSpPr txBox="1"/>
            <p:nvPr/>
          </p:nvSpPr>
          <p:spPr>
            <a:xfrm>
              <a:off x="6658560" y="207540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Accueil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arrainage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pic>
          <p:nvPicPr>
            <p:cNvPr id="657" name="Picture 23" descr="confus"/>
            <p:cNvPicPr/>
            <p:nvPr/>
          </p:nvPicPr>
          <p:blipFill>
            <a:blip r:embed="rId2"/>
            <a:stretch/>
          </p:blipFill>
          <p:spPr>
            <a:xfrm>
              <a:off x="3694680" y="1441080"/>
              <a:ext cx="43632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24" descr="organis"/>
            <p:cNvPicPr/>
            <p:nvPr/>
          </p:nvPicPr>
          <p:blipFill>
            <a:blip r:embed="rId3"/>
            <a:stretch/>
          </p:blipFill>
          <p:spPr>
            <a:xfrm>
              <a:off x="4880160" y="1117440"/>
              <a:ext cx="724320" cy="8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25" descr="gagner"/>
            <p:cNvPicPr/>
            <p:nvPr/>
          </p:nvPicPr>
          <p:blipFill>
            <a:blip r:embed="rId4"/>
            <a:stretch/>
          </p:blipFill>
          <p:spPr>
            <a:xfrm>
              <a:off x="6658560" y="1171440"/>
              <a:ext cx="82368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26" descr="heureux"/>
            <p:cNvPicPr/>
            <p:nvPr/>
          </p:nvPicPr>
          <p:blipFill>
            <a:blip r:embed="rId5"/>
            <a:stretch/>
          </p:blipFill>
          <p:spPr>
            <a:xfrm>
              <a:off x="7646760" y="3166200"/>
              <a:ext cx="102096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passerel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218960" y="990360"/>
            <a:ext cx="7678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éparer la poursuite d’étud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ès la terminale professionnelle en particulier vers les sections de technicien supéri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llaborer entre EPL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lycées professionnels et lycées généraux et technologiques)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changes d’élèves, banalisation d’heures de formation, création de parcours d’adaptatio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changes d’heures d’enseignement (enseignement général et technique)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laboration d’un livret de compétences (portfolio informatique s’étalant entre terminale bac pro et première année de T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se en compte d’un véritable positionnement en TS1 entraînant un parcours de formation personnalis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263600" y="5308560"/>
            <a:ext cx="288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lève issu de bac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1263600" y="631836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lève issu d’un bac 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"/>
          <p:cNvSpPr/>
          <p:nvPr/>
        </p:nvSpPr>
        <p:spPr>
          <a:xfrm>
            <a:off x="4216320" y="6534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6953400" y="6100920"/>
            <a:ext cx="13921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er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10"/>
          <p:cNvSpPr/>
          <p:nvPr/>
        </p:nvSpPr>
        <p:spPr>
          <a:xfrm>
            <a:off x="6943680" y="6245280"/>
            <a:ext cx="1403280" cy="274680"/>
          </a:xfrm>
          <a:custGeom>
            <a:avLst/>
            <a:gdLst>
              <a:gd name="textAreaLeft" fmla="*/ 0 w 1403280"/>
              <a:gd name="textAreaRight" fmla="*/ 1403280 w 1403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891" h="173">
                <a:moveTo>
                  <a:pt x="0" y="0"/>
                </a:moveTo>
                <a:lnTo>
                  <a:pt x="279" y="51"/>
                </a:lnTo>
                <a:lnTo>
                  <a:pt x="648" y="95"/>
                </a:lnTo>
                <a:lnTo>
                  <a:pt x="790" y="119"/>
                </a:lnTo>
                <a:lnTo>
                  <a:pt x="885" y="130"/>
                </a:lnTo>
                <a:lnTo>
                  <a:pt x="891" y="172"/>
                </a:lnTo>
                <a:lnTo>
                  <a:pt x="7" y="173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9"/>
          <p:cNvSpPr/>
          <p:nvPr/>
        </p:nvSpPr>
        <p:spPr>
          <a:xfrm>
            <a:off x="4143240" y="4978440"/>
            <a:ext cx="4176720" cy="14828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1482840"/>
              <a:gd name="textAreaBottom" fmla="*/ 1483200 h 1482840"/>
            </a:gdLst>
            <a:ahLst/>
            <a:rect l="textAreaLeft" t="textAreaTop" r="textAreaRight" b="textAreaBottom"/>
            <a:pathLst>
              <a:path w="2635" h="1013">
                <a:moveTo>
                  <a:pt x="0" y="378"/>
                </a:moveTo>
                <a:cubicBezTo>
                  <a:pt x="192" y="327"/>
                  <a:pt x="908" y="0"/>
                  <a:pt x="1151" y="69"/>
                </a:cubicBezTo>
                <a:cubicBezTo>
                  <a:pt x="1394" y="138"/>
                  <a:pt x="1213" y="636"/>
                  <a:pt x="1460" y="793"/>
                </a:cubicBezTo>
                <a:cubicBezTo>
                  <a:pt x="1707" y="950"/>
                  <a:pt x="2390" y="967"/>
                  <a:pt x="2635" y="1013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 flipV="1">
            <a:off x="7240680" y="5597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>
            <a:off x="7240680" y="55864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7529400" y="5238720"/>
            <a:ext cx="147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pports de connaissances, méthodologi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322280" y="121932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Eléments de Dé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1390680" y="2308320"/>
            <a:ext cx="7378560" cy="38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odularis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représente la description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nités de Formation (UF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odul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e l’ensemble des activités professionnelles et transversales dédiées à un métier. Elle permet la construction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de form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nstitués d’UF et de mod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UF est définie à partir d’un ensemble de compétences relatives à une ou plusieurs activités professionnelles de référence. Chaqu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F doit viser un ensemble significatif de compétences professionnellement cohér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8" descr="fluidité"/>
          <p:cNvPicPr/>
          <p:nvPr/>
        </p:nvPicPr>
        <p:blipFill>
          <a:blip r:embed="rId1"/>
          <a:stretch/>
        </p:blipFill>
        <p:spPr>
          <a:xfrm>
            <a:off x="4849920" y="773280"/>
            <a:ext cx="455112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332000" y="1062000"/>
            <a:ext cx="65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Le sens et les principes de la modularis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511280" y="2352600"/>
            <a:ext cx="73947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modularisation sert à la création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de formation flexibl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facilite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ormation tout au long de la vi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n permetta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personnalisé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modularisation doit faciliter la mise en place de parcours de formation adaptés à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iversité de situation des entrants et aux poursuites d’études envisag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1332000" y="1062000"/>
            <a:ext cx="65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Le sens et les principes de la modularis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474920" y="2279520"/>
            <a:ext cx="73231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 de formations générales comportent deux types de mod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modules autonom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dédiés à la formation générale de l’étudiant ou facilitateurs pour la poursuite d’étu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modules liés aux enseignements technologiques et professionn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qui doivent être placés en cohérence dans le parcours de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76160" y="36000"/>
            <a:ext cx="74674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1370160" y="1562040"/>
            <a:ext cx="753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référentiels d’u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ême champ professionnel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mporte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F et des modules communs éventuellement avec des niveaux de performance attendue variables et des UF spécifiqu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Il est à noter que ce principe peut contribuer à maintenir des formations à faible effectif par regroupement d’étudiants au moins pendant les mod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ériodes de Formation en Entrepris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oivent être intégrées à certaines U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que référentiel doit comporter une UF permettant de valider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mpétences professionnelles de synthès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9:18:30Z</dcterms:created>
  <dc:creator>Michel RAGE</dc:creator>
  <dc:description/>
  <dc:language>en-US</dc:language>
  <cp:lastModifiedBy>Pierre</cp:lastModifiedBy>
  <dcterms:modified xsi:type="dcterms:W3CDTF">2011-11-08T11:53:47Z</dcterms:modified>
  <cp:revision>71</cp:revision>
  <dc:subject/>
  <dc:title>L’adaptation des parcours de formation</dc:title>
</cp:coreProperties>
</file>